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478-76C0-48E7-B576-610D8FAA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AC77-FE27-4AC5-909B-31F8904C4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965B-FBA7-4077-8DF4-9DF6B5BEB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ECCC-E16D-4C4C-8570-25AC3C31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B439-1A71-4E33-A552-2003970E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69B-D7BF-4177-9DDD-F146D595E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49B-A331-47DD-B13A-65104576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5E86-2182-46ED-AF57-B27EB0CC8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BA5C-CD4D-44F4-A31B-A5159CD3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27D1-4C30-4535-8089-7815D7697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E7A4-F7AF-4E70-BC07-77A2F983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CC33-8488-4B70-90B9-EDC6016E0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DCBE-007A-4E0D-A3C6-85E39FC2DC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17640"/>
          <a:stretch/>
        </p:blipFill>
        <p:spPr>
          <a:xfrm>
            <a:off x="679320" y="189000"/>
            <a:ext cx="70614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8:10:02Z</dcterms:created>
  <dc:creator>IMS</dc:creator>
  <dc:description/>
  <dc:language>en-US</dc:language>
  <cp:lastModifiedBy>IMS</cp:lastModifiedBy>
  <dcterms:modified xsi:type="dcterms:W3CDTF">2008-02-16T09:38:22Z</dcterms:modified>
  <cp:revision>2</cp:revision>
  <dc:subject/>
  <dc:title>Slide 1</dc:title>
</cp:coreProperties>
</file>